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wmf" ContentType="image/x-wmf"/>
  <Override PartName="/ppt/media/image6.jpeg" ContentType="image/jpeg"/>
  <Override PartName="/ppt/media/image5.wmf" ContentType="image/x-wmf"/>
  <Override PartName="/ppt/media/image10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11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5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5028B-2427-41F2-BFCF-8DDB37244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0;&#1086;&#1090;&#1086;" TargetMode="External"/><Relationship Id="rId2" Type="http://schemas.openxmlformats.org/officeDocument/2006/relationships/hyperlink" Target="http://ru.wikipedia.org/wiki/&#1071;&#1087;&#1086;&#1085;&#1080;&#1103;" TargetMode="External"/><Relationship Id="rId3" Type="http://schemas.openxmlformats.org/officeDocument/2006/relationships/slide" Target="../slides/slide17.xml"/><Relationship Id="rId4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55;&#1080;&#1097;&#1077;&#1074;&#1072;&#1088;&#1080;&#1090;&#1077;&#1083;&#1100;&#1085;&#1072;&#1103;_&#1092;&#1077;&#1088;&#1084;&#1077;&#1085;&#1090;&#1072;&#1094;&#1080;&#1103;&amp;action=edit" TargetMode="External"/><Relationship Id="rId2" Type="http://schemas.openxmlformats.org/officeDocument/2006/relationships/hyperlink" Target="http://ru.wikipedia.org/w/index.php?title=&#1056;&#1080;&#1089;&#1086;&#1074;&#1086;&#1076;&#1089;&#1090;&#1074;&#1086;&amp;action=edit" TargetMode="External"/><Relationship Id="rId3" Type="http://schemas.openxmlformats.org/officeDocument/2006/relationships/hyperlink" Target="http://ru.wikipedia.org/wiki/&#1041;&#1080;&#1086;&#1084;&#1072;&#1089;&#1089;&#1072;" TargetMode="External"/><Relationship Id="rId4" Type="http://schemas.openxmlformats.org/officeDocument/2006/relationships/slide" Target="../slides/slide6.xml"/><Relationship Id="rId5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340A5-DBA4-4AAE-8BA5-56C2E93F4A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Последствия парникового эффекта для Зем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озможные последствия глобального потепления климата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не можем точно сказать к каким изменениям климата может привести глобальное потепление. Однако, п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 мнению многих ученых, если сохранится тенденция глобального потепления, это приведет к изменению погоды и увеличению количества осадков, что, в свою очередь, приведет к подъему уровня Mирового океан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ак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США и бывшем СССР последние 30-40 лет выпадает осадков на 10 процентов больше, чем в прошл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то же время, количество осадков над экватором сократилась на те же десять процент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FC853-547F-4316-AD9D-0732CA3ACB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озможные последствия глобального потепления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лим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альнейшее изменение в системе выпадения осадков окажет огромное воздействие на сельское хозяйство, смещая зоны возделывания культур в северные районы Северной Америки и Евразии. Наиболее благоприятные условия для выращивания культур сложатся в сельскохозяйственных регионах России и обильные осадки будут выпадать в Северной Африке, где засуха продолжается с 1970-го года. Кроме того, повышение температуры увеличит испарение влаги с поверхности океана. Это приведет к увеличению выпадения осадков на 11 процент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следствия потепления климата будут ощущаться на Северном и Южном полюсах, где увеличившаяся температура приведет к подтаиванию ледников. По расчетам ученых увеличение температуры на 10 градусов по Цельсию, вызовет повышение уровн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рового океана на 5-6 метров, что приведет к затоплению многих прибрежных территорий во всем мир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33262-BF19-42C7-A331-8611D407B0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Уже сегодня мы сталкиваемся с участившимися климатическими  аномалиями. Это и всё более сильные ураганы и штормы, наводнения, засуха, выпадание снега там, где его никогда не ждали, необычайно тёплые зимы в северных широт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AED5C-D8AF-4887-BB60-87A5DDEC6D7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янье ледников- индикатор потепления клима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более чувствительными к потеплению климата являются ледни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Ледник Упсала в Патагонии (Аргентина) был одним из самых больших ледников Южной Америки, но теперь исчезает на 200 метров в го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20057-09C9-4650-9D8A-8669BABAE3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янье ледников- индикатор потепления клима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A249F-60A0-4B83-B790-6C3C95CCD08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янье ледников- индикатор потепления клима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6230D-9016-48D8-8564-32494AA099D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отский протоко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а влияния парникового эффекта на климат земли является одной из важнейших задач, требующих скорейшего решения. Начальным этапом решения проблемы стали международные договорённости по сокращению выбросов парниковых газов в атмосфер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895EA-E66E-4BD8-A609-D7AF320D81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иотский протоко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иотский протоко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— международный документ, принятый в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Киот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Япони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в декабре 1997 года в дополнение к Рамочной конвенции ООН об изменении климата . Период подписания протокола открылся 16 марта 1998 года и завершился 15 марта 199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F0CAE-ED88-4DDA-8AF7-D308079CBA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Детали соглаш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иотский протокол стал первым глобальным соглашением об охране окружающей среды, основанным на рыночных механизмах регулирования — механизме международной торговли квотами на выбросы парниковых газ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траны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ниц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Протокола определили для себя количественные обязательства по ограничению либо сокращению выбросов на период с 1 января 2008 до 31 декабря 2012 года. Цель ограничений — снизить в этот период совокупный средний уровень выбросов 6 типов газов (CO2, CH4,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гидрофторуглеводороды, </a:t>
            </a: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перфторуглеводород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N2O, SF6) на 5,2 % по сравнению с уровнем 1990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19FBA-291D-4D13-831B-4FBADCE25B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ография Киотского протоко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 состоянию на 14 февраля 2006 года Протокол был ратифицирован 161 страной мира (совокупно ответственными за более чем 61 % общемировых выбросов). Заметным исключением из этого списка являются СШ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62861-17D2-4A66-8332-5E4B606DAE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презен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парниковый эффек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рниковый эффект. Как он действуе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рниковые газ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ияние парникового эффекта на климат Зем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янье ледников- индикатор потепления клима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отский протоко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  мифов о глобальном потепл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3A26F-231A-4A1C-9A0B-1A3633DDCBC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 мифов о глобальном потеплен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99ff"/>
                </a:solidFill>
                <a:latin typeface="Arial"/>
              </a:rPr>
              <a:t>Человек с древних времен склонен верить мифам. Часть из них не лишена логики, но все таки большая половина оказывается полным бредом. То же самое и с </a:t>
            </a:r>
            <a:r>
              <a:rPr b="1" lang="en-US" sz="1200" spc="-1" strike="noStrike">
                <a:solidFill>
                  <a:srgbClr val="3399ff"/>
                </a:solidFill>
                <a:latin typeface="Arial"/>
              </a:rPr>
              <a:t>глобальным потеплением</a:t>
            </a:r>
            <a:r>
              <a:rPr b="0" lang="en-US" sz="1200" spc="-1" strike="noStrike">
                <a:solidFill>
                  <a:srgbClr val="3399ff"/>
                </a:solidFill>
                <a:latin typeface="Arial"/>
              </a:rPr>
              <a:t>. Вот распространенные заблуждения, связанные с ним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). Глобального потепления вообще не происходит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К сожалению происходит. Наукой не раз доказано, а фактами подтверждено, что температура быстро растет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). Глобальное потепление - естественный процесс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Скорее всего нет (повышение температуры, особенно с 70-х годов, намного превышают естественные изменения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). В любом случае последствия будут постепенными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Сильные штормы становятся все чаще, а историей доказано, резкое изменение климатических условий может наступить внезапно, буквально за несколько лет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A91F8-A748-4F11-8400-2086CE31301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4 мифов о глобальном потепле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). Глобальное потепление приведет к всемирному потоп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Если потепление будет идти теми же темпами, то уровень мирового океана поднимется на 1 метр. Если же допустить, что все ледники растают, что конечно же невозможно, то вода поднимется на 10 метров. И если учесть, что средняя высота суши над уровнем океана - 840 метров, то переживать так сильно по поводу затопления не стои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). Глобальное потепление - единственная причина резких, непредсказуемых изменений пог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алеко не единственная. Существует ряд естественных, циклических процессов, к которым глобальное потепление не имеет никакого отношения. И именно они являются тем, что может вызвать резкое потепление или похолодание. Такими факторами могут послужить океанские течения, циклоны, изменение магнитного поля Земли и просто совпа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24039-CDEA-486D-92D3-0CD8881490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4 мифов о глобальном потепле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). Выбросы углекислого газа слишком незначительны, чтобы спровоцировать глобальное потепление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Хотелось бы верить, но пока факты это отрицают. По статистическим данным, которым можно доверять были построены графики концентрации углекислого газа в атмосфере и температуры в это время. Они совпадаю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). Из-за глобального потепления температура скоро вырастет настолько, что мы все погибнем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е настолько и не скоро. За последние 100 лет температура выросла на 0,7°С, - 1° С. И по самым смелым прогнозам в ближайшие 100 лет может вырасти еще на 4,6° С, но скорее всего это увеличение не превысит 2°С. С меньшей вероятностью, но есть модели, предсказывающие да же похолода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). От глобального потепления мы получим только выго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некоторых районах можно будет порадоваться необычно теплой погодой, но цена негативных последствий превысит любые выгоды. Число болезней и смертей из-за жары выраст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BEE8C-1F19-4B15-B695-7ABEC26F24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4 мифов о глобальном потепле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). Сельскому хозяйству это будет только на ру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глекислый газ может повысить урожайность ряда культур, но так же возрастет и количество сорняков и вредителей. Растения не смогут хорошо расти на том же месте из-за климатического сдви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). Правительство о нас позаботи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мимо прянятия Киотского протокола (который только ограничивает выбросы) несколькими странами, исключая США (крупнейший источник вредным выбросов) больше ничего сделано не было. Правительства боятся экономических последствий борьбы с глобальным потеплени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1). Проблема не так серьезна, как национальная безопас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у как посмотреть. Если учесть, что потепление затронет каждого жителя планеты (при чем больно ударив по нему), то думаю будет посерьезн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). Причины глобального потепления известны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ногие верят, что в глобальном потеплении полностью виновен человек и что только остановив промышленную деятельность, можно избежать катастрофы. В действительности же проблема изменения климата настолько нова, что сейчас невозможно с точностью сказать о ее причинах. То, что оно происходит - это факт, но то что это результат антропогенной деятельности человека далеко не единственная версия. Так, например, существует версия, что это результат естественных процессов, происходящих в системе Солнце - Земля - Космо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447B7-1D39-4595-8007-26AFD07B3B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 мифов о глобальном потепл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3). Мы знаем, как бороться с глобальным потеплением, у нас есть технолог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тратегический план находится в разработке. Существует несколько масштабных вариантов борьбы с глобальным потеплением, но все они из области фантастики, да и требуют колоссальных вложений, сравнимых с бюджетом США, но лучше много мелких изменений, чем одно больш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4). Мы не можем ничего с этим подел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аждый уже сейчас может внести свой вклад в борьбу с глобальным потеплением хотя бы просто соблюдая рационализм в своей потребительской деятель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43EF3-4E8D-41ED-85BB-AA7627F9F85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ключении хочется отметить, что существует версия, о том, что влияние парникового эффекта на глобальное  потепление климата не так значительно, а нынешнее потепление – это лишь очередной этап в циклическом изменении климата нашей планеты. Ведь не стоит забывать, что по геологическим меркам последний ледниковый период на Земле был не так уж и дав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ACEED-0768-4ED7-B045-8D2B4068C3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парниковый эффек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арнико́вый эффе́к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— повышение температуры нижних слоёв атмосферы планеты по сравнению с эффективной температурой, т. е. температурой теплового излучения планеты, наблюдаемого из космо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25196-ED81-443F-A9DE-A2B5402FDB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рниковый эффект. Как это происходи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копление углекислого газа в атмосфере - одна из основны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ичин парникового эффекта. Углекислый газ действует в атмосфере, как стекло в оранжерее: он пропускает солнечную радиацию и не пропускает обратно в космос инфракрасное (тепловое) излучение Земл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0C9D0-6F9C-4CAE-A309-C688F336649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никовые га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Водяной пар — основной естественный парниковый газ, ответственный более, чем за 60 % эффек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Углекислый газ (</a:t>
            </a:r>
            <a:r>
              <a:rPr b="0" lang="en-US" sz="1100" spc="-1" strike="noStrike">
                <a:solidFill>
                  <a:srgbClr val="009999"/>
                </a:solidFill>
                <a:latin typeface="Arial"/>
              </a:rPr>
              <a:t>CO2</a:t>
            </a:r>
            <a:r>
              <a:rPr b="0" lang="ru-RU" sz="1100" spc="-1" strike="noStrike">
                <a:solidFill>
                  <a:srgbClr val="009999"/>
                </a:solidFill>
                <a:latin typeface="Arial"/>
              </a:rPr>
              <a:t>)</a:t>
            </a: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- </a:t>
            </a:r>
            <a:r>
              <a:rPr b="0" lang="ru-RU" sz="1100" spc="-1" strike="noStrike">
                <a:solidFill>
                  <a:srgbClr val="009999"/>
                </a:solidFill>
                <a:latin typeface="Arial"/>
              </a:rPr>
              <a:t>и</a:t>
            </a:r>
            <a:r>
              <a:rPr b="0" lang="en-US" sz="1100" spc="-1" strike="noStrike">
                <a:solidFill>
                  <a:srgbClr val="009999"/>
                </a:solidFill>
                <a:latin typeface="Arial"/>
              </a:rPr>
              <a:t>сточниками углекислого газа в атмосфере Земли являются вулканические выбросы, жизнедеятельность организмов, деятельность человек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Метан (</a:t>
            </a:r>
            <a:r>
              <a:rPr b="0" lang="en-US" sz="1100" spc="-1" strike="noStrike">
                <a:solidFill>
                  <a:srgbClr val="009999"/>
                </a:solidFill>
                <a:latin typeface="Arial"/>
              </a:rPr>
              <a:t>CH4</a:t>
            </a:r>
            <a:r>
              <a:rPr b="0" lang="ru-RU" sz="1100" spc="-1" strike="noStrike">
                <a:solidFill>
                  <a:srgbClr val="009999"/>
                </a:solidFill>
                <a:latin typeface="Arial"/>
              </a:rPr>
              <a:t>)</a:t>
            </a: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- о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сновными антропогенными источниками метана являются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ищеварительная ферментация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 у скота,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рисоводство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, горение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биомассы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 (в т. ч. сведение лесов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Озон (О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Оксид углерода (С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фрео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7562D-1920-49C2-9CD9-29061FED56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лияние парникового эффекта на климат Земл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Ещё в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27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году французский физик Жозеф Фурье предположил, что атмосфера земли выполняет функцию своего рода стекла в теплице: воздух пропускае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олнечное тепл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не давая ему при этом испариться обратно в космос. Этот эффект достигается благодаря некоторым атмосферным газам второстепенного значения, каковыми являются, например, водяные испарения и углекислый газ. Они пропускают видимый и «ближний» инфракрасный свет, излучаемый солнцем, но поглощают «далекое» инфракрасное излучение, имеющее более низкую частоту и образующееся при нагревании земной поверхности солнечными лучами. Если бы этого не происходило, Земля была бы примерно на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 градусов холодне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чем сейчас, и жизнь бы на ней практически замер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09203-BAFA-4BD0-850B-9F45AF8A355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лияние парникового эффекта на климат Зем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ако, з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 последние 100 лет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вязи с активной деятельностью человек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доля двуокиси углерода имеет тенденцию роста приблизительно на 25% и средняя температура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земли повысилась на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,7º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Земля нагревается однако неравномерно, температуры на полюсах увеличиваются более экстремально, чем в других областях земли. Если эта тенденция не остановится, то наступят климатические изменения – более долгие периоды засухи, интенсивное выпадение осадков и более мощные ураганы – уровень моря может подняться. Плодородные регионы побережья станут жертвой моря и будут затоплены. Может возникнуть угроза голода и миграции народов с губительными социальными последствиями.  Климат Земли грозит нам еще большими неприятностями, нежели те, что он преподнес в последние годы - катастрофические ураганы, бурные наводнения и жестокие засухи. Они, вероятно, будут повторяться все чаще и станут разрушительнее. Продолжаться это будет до тех пор, пока человечество не найдет способ значительно уменьшить содержание парниковых газов разогревающих атмосфер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72F48-3811-4865-A701-EE2D8BEB41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лияние парникового эффекта на климат Зем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ак: основным следствием парникового эффекта является глобальное потеп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2FE91-A116-4138-8ABA-E6CB43C9D49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8C51-FEDC-403A-937A-C54BCD2F8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BDC8-26B1-4BA4-B7A4-F5325E77B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6E10F9-1A71-49F4-BDCD-4DF105CE3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C0D950-06C7-485E-A09C-7DDAF571D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8C27CA-A635-4B10-A6AF-674A7ABC3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A9E472-21B7-4C84-A36E-D60438B2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E1B3B7-216C-4DCD-812F-B55D819F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65E970-CDED-468C-B7A2-B37D91D3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F1FD51-F915-4A7E-9391-228BAC788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D4ED04-4BC8-4DAE-AF8F-0D08F6C04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F24876-45AD-4B7C-9564-933D3DCE1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86D5BC-97B2-4E83-89FD-F6EC866D2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29CE-57A1-43E0-9CD1-A8F24B3A8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4CE1E6-06E9-4707-B12F-60F3C0DDA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E9C6AB-34FE-47E4-93BD-6F3A8EF0B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F3A129-DD3B-47E8-A0E4-913BC3777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06CE6A-878B-483F-BA84-BFD63E256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748FA1-D975-4491-BCA5-CA8457096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F74B84-48C5-4CF6-A91C-2F5D052C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4F6BEC-603E-4E79-A709-AA54EFA3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FC80C0-34D7-49F4-AC03-0312BC4D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1519F9-CF9F-42BA-BBC7-3B8BF0562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095C16-EF73-4BC7-A336-35850F4D7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14F3-8A62-4D74-BAC1-1569BE52D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63AEC8-0C4E-4330-890B-5C1769513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7A5434-D4AA-4B86-BE3C-1BC2286D8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9C3BEC-8A25-4DAF-B4FE-65D367889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A320F6-FC58-46CA-A5EA-4D7A2B1D0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90AC2D-6881-46A9-A41D-485539A65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D539AA-A8A8-4E6E-B95D-43707ADC3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158818-B6A4-4AA6-8C77-C7B4E7E42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25AA5A-5D24-4D69-9BD9-1364C4D0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8100B1-C03B-42F2-822E-B49F8093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A4B180-5F22-4C04-A631-C3B5061E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8A604-149F-4687-8C0B-2E2FAB83E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D7033A-4667-46B5-8CB1-ECDDDDAA1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C41054-E2C0-4531-B813-4EA014CEB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A2278F-F464-4588-975D-FF7CF8D87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D028CA-2D01-472A-A609-8B3CC0201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D7ABE8-EA46-43BC-8F43-5ADE89296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A7E30D-41D8-4F17-844E-3997596E4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BA53F3-ED2B-431F-99C5-C009C4E1F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7BFEFC-FE82-44D1-99F3-C0545CCCF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B631AB-35B2-42C9-8C36-01FE463D4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D19C28-E344-42C0-A276-C58BD4D3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0A48B-4895-47CA-BBC2-01AA1B2E3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D8B42B-FB08-4296-B1D7-7419F4EC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F15240-4BFF-452E-B61C-3CA9855E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57D5A2-6B1C-434E-BB1A-1151B637A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765847-6748-440F-B20A-7D14CF439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DCA318-9855-4053-8CCE-6A7DD937A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699759-58D4-488C-A810-4283BE504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9CBB32-91DC-46BC-971A-0A6764674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C363A1-9742-4C88-A9F7-C452B8373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309932-3853-49A0-B02D-61CE568E9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E43228-D2AE-47DB-B163-4446B2944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89B73-0790-4593-A810-2686F81D7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685000-D558-4E89-B1FC-C3F321FF2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D7025D-4057-4564-9C78-32571BF9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B9072E-909D-466E-9A21-65479267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AA8679-1EEF-4D09-B859-1BCA75A9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E941CE-685C-48F2-BDFC-5A70882A1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69F054-06DF-41A9-ACFE-7BECEC6BF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244763-CD13-4E0C-B121-3EC42F76A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8206FE-4B53-4887-8CF9-B38037518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DB5A71-DE6A-4A63-BA03-BCBC0DB4E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BF2CF4-249D-425D-93DD-8C0A727A8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AC1B5-9FD0-4930-A748-4460515B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086D7F-0DB2-450F-8614-BC7F7B01C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9A9023-D5BF-46ED-BD4F-2E8CC48FB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2BAAD2-2EAB-4E49-AA2C-3FF2AC2DD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9A59B6-8046-47A4-95F0-C60080C5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76BE5B-2012-43AA-994C-751508F4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E0D022-71FC-4320-9C7C-7A49B751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2ABB59-D8AB-4ACD-ACB8-E23137CDD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0F3ACA-E299-4D56-A7ED-4630E7AFF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8AE3AA-A97A-4151-8837-7A169E498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D0634-9698-4747-B24C-416B2163F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F452D-C9D1-4AF8-B87D-6B0C4A951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8B791-DA29-4CCA-877B-330A784B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F378-6207-4C7D-8675-4C5D57913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606EF-00E8-466D-881B-7188E03E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8BFFE-C604-4E80-8695-DA41A97B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2B2A5-B38B-4638-81BB-73D222772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8B7C7-FF52-44FE-B7C9-ADDD89EAF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3F7D9-3B91-4076-93B7-B345912AE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4DC44-AB60-4E81-9817-BDAF0A851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9D0D4-AE88-4348-805C-A6FE7E6E6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3CC0A-B2D3-485C-BD61-BADBAEDCD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677EB-CB13-4823-9946-24283AA1A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24B91-2566-492D-A437-B92062FF8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628B-5B4D-43C2-88D1-83C1164EE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80D4F-C430-44A9-97F8-861C0B816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B207F-30C1-43ED-88CC-3A9457E6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8EFE5-036C-4951-9A63-DCB071A7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7CCF9-970D-4D88-8C37-5C220EEE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427F4-BE06-46C2-AB11-6D220A4F5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1014B-878E-440B-99DA-899444AF6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F377C-2BEB-4160-A8E6-B32239134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DE6412-D2F2-4896-9CB3-7971921D4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8B0EC6-C232-418F-9B3C-73D2BEC4C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19D788-1B3C-4328-85B9-933D8C02C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59CC-50EF-499C-8773-0275299B5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CE5559-56B7-4755-9CF5-FC58F8528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929D94-D8E5-4A7F-9656-0393AC373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C3407C-FF8A-4AFF-83D8-F099EFA03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8EFBF2-4204-4833-8185-849E51A47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F8AE4A-1D12-4EBB-A756-6720ADF6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61AE33-26B5-4E23-81C2-4327DB0F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ABCE3A-71B3-4FB0-B0D2-0832B0032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031661-D5A6-4C34-A1AD-FD0436275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625D8D-158B-491B-BEAB-2C9D0E698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51A89-689F-4A8A-84C7-DFFFA0193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BC1E-54CD-455F-91E3-A81739D17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9CB01-6C00-46D8-A6C9-2D92B1358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79426-3E6B-4488-90B5-4DCDFEF0A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B3E21-AEC9-4896-B499-74FB9147C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5B56F-FACB-4A59-BF69-CBA83D4D4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2A460-C041-45BF-9089-E657EC581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A0BF7-9124-441E-8E67-727417C8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894D7-BA3D-4747-B402-65E111D1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74C52-0C66-498C-B4B2-97CC53BB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8D110-85BF-4232-8FB9-B8A6957A3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7F1F6-5B7C-45BF-9794-1E3BDE3F5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439E-0B1B-46FD-A875-476016202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032FF-EB16-477A-B5CC-B0EC1D23F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894E2-2693-4DA5-8A00-0D476C44F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E932A2-EFB1-42AA-9743-6D05952D4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24AE7-7BBF-4B58-B3DF-38BF74121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56681-DACB-431D-A7BB-9ED4EB14D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71BF7F-A985-4296-9F88-895478AC1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A5488-2616-490E-84E0-989B6753F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7B7C4-8D77-4A3B-B3CB-B853E8BD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3A0FA-EB9B-425C-A486-8071DA23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36EC7-881C-439E-BCC7-92F63FE8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7E1D-BC52-45EA-AD74-0C6E6D08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B0D0B-BA22-4158-8145-7EF4173AE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9BBBA-7627-4F7F-AC96-533C586BB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0F74A-3079-4BD6-8A38-DDE064E46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2CF2A0-0984-4BA1-BB8E-0EA79218F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EA77F-C0C8-4320-BD84-997E2CF2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52BE5-335F-4C95-9F28-99878A4BF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5110F-462D-4E22-8C0B-7FC855B7F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F5F72C-748B-4CE3-9993-443E34803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F9313-F96A-4FBC-B2DF-417AF4C58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DEA56D-4F86-4BE6-A29A-186BF785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EE97-BEB8-4DE8-A517-1B2941EB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8DD86-D3F9-4A49-8E84-439A4B3C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593554-2206-49EE-A696-FC57F1B4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64C6A-0E47-4283-8811-2C50F73A5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44A95A-ED2C-4528-B314-0252DD43F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CEBD5-226B-4445-BCE9-8060B0A53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1821C2-DFFA-4EAF-8E32-F121DB383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8947D0-B6AC-4BE5-AC49-904AEC605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D85B14-ABED-44C0-9699-AFB9CDAC9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A978ED-71DE-40C9-8C44-E0BB568F4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74B6C-3B8C-435E-9095-F6B0F6171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A701-5B6A-4A49-8C81-9F8284FD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4F6077-1585-4BC1-ABA9-3FA11EBFC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251869-D5EF-4797-8409-AD33AA8D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BF9410-295E-467B-B7AA-C5D1FA4B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33D2DE-4374-4847-8072-A0C5D8DB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A937A7-6DF3-437A-8C75-7CADF3B81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F346A9-1F03-4B1D-97E1-0E785EDF5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6786C3-1B3F-4DEF-A950-246EDFE37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4D15C1-BE0B-4134-B5FE-FB0FADA25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75B429-01B6-484C-AB15-FF1A1B019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BB4ECE-CC2D-4C0A-933A-602623524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3477A-CE98-41D5-AE41-16735DF78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64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65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66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67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69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2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2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339CE-906B-40D0-990C-D852E836CC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2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13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14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15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16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17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18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19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2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4BE36-0164-49FB-A62A-BDF19FB16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1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562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63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64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65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66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67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68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69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0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1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2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3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4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5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6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7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8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9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0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1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2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3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4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5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6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7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8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9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0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1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2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3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4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5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dt" idx="3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3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sldNum" idx="3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C1228-F8D8-4054-8011-814D96164BC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638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9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1A602-450C-4D09-84A9-F7A856A5841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1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682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3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4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685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686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87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88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89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0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1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2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3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4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5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6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7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8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699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2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3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4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5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6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7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8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9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710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711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12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13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14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15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716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7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9B16E-95D0-4A20-A597-46C5994B816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B1A95-7D4D-48F1-8F32-22FDDE9FA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83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4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5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6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7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8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9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20855-5F4D-45DF-BD26-E474173625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dt" idx="1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E16DF-4EB0-43A5-AF86-2ECF7A8AC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34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35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36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7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8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9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0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41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2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43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83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4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5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6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7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8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9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0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1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2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3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4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5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6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7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8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9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0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1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2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3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4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5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6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7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8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9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0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1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2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3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4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5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6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6FBC3-79AB-49C7-9B33-95D922596E1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8773C-DF0D-4F77-8BC1-759138119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00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01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8613-7841-4340-B5C6-51883426B8F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344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45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46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347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348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49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0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1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2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3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4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5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6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7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8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9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60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361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2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3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4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5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6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7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8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9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70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71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372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73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74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75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76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77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378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79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78390-FA31-42BD-AB71-5E04EE8727E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ftr" idx="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8E452-E78A-4A1A-A2FD-2F0A89255C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0;&#1086;&#1090;&#1086;" TargetMode="External"/><Relationship Id="rId2" Type="http://schemas.openxmlformats.org/officeDocument/2006/relationships/hyperlink" Target="http://ru.wikipedia.org/wiki/&#1071;&#1087;&#1086;&#1085;&#1080;&#1103;" TargetMode="External"/><Relationship Id="rId3" Type="http://schemas.openxmlformats.org/officeDocument/2006/relationships/hyperlink" Target="http://ru.wikipedia.org/wiki/1997" TargetMode="External"/><Relationship Id="rId4" Type="http://schemas.openxmlformats.org/officeDocument/2006/relationships/hyperlink" Target="http://ru.wikipedia.org/wiki/&#1056;&#1072;&#1084;&#1086;&#1095;&#1085;&#1072;&#1103;_&#1082;&#1086;&#1085;&#1074;&#1077;&#1085;&#1094;&#1080;&#1103;_&#1054;&#1054;&#1053;_&#1086;&#1073;_&#1080;&#1079;&#1084;&#1077;&#1085;&#1077;&#1085;&#1080;&#1080;_&#1082;&#1083;&#1080;&#1084;&#1072;&#1090;&#1072;" TargetMode="External"/><Relationship Id="rId5" Type="http://schemas.openxmlformats.org/officeDocument/2006/relationships/hyperlink" Target="http://ru.wikipedia.org/wiki/16_&#1084;&#1072;&#1088;&#1090;&#1072;" TargetMode="External"/><Relationship Id="rId6" Type="http://schemas.openxmlformats.org/officeDocument/2006/relationships/hyperlink" Target="http://ru.wikipedia.org/wiki/1998" TargetMode="External"/><Relationship Id="rId7" Type="http://schemas.openxmlformats.org/officeDocument/2006/relationships/hyperlink" Target="http://ru.wikipedia.org/wiki/15_&#1084;&#1072;&#1088;&#1090;&#1072;" TargetMode="External"/><Relationship Id="rId8" Type="http://schemas.openxmlformats.org/officeDocument/2006/relationships/hyperlink" Target="http://ru.wikipedia.org/wiki/1999" TargetMode="External"/><Relationship Id="rId9" Type="http://schemas.openxmlformats.org/officeDocument/2006/relationships/slideLayout" Target="../slideLayouts/slideLayout73.xml"/><Relationship Id="rId1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2006" TargetMode="External"/><Relationship Id="rId2" Type="http://schemas.openxmlformats.org/officeDocument/2006/relationships/hyperlink" Target="http://ru.wikipedia.org/wiki/&#1057;&#1064;&#1040;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55;&#1080;&#1097;&#1077;&#1074;&#1072;&#1088;&#1080;&#1090;&#1077;&#1083;&#1100;&#1085;&#1072;&#1103;_&#1092;&#1077;&#1088;&#1084;&#1077;&#1085;&#1090;&#1072;&#1094;&#1080;&#1103;&amp;action=edit" TargetMode="External"/><Relationship Id="rId2" Type="http://schemas.openxmlformats.org/officeDocument/2006/relationships/hyperlink" Target="http://ru.wikipedia.org/w/index.php?title=&#1056;&#1080;&#1089;&#1086;&#1074;&#1086;&#1076;&#1089;&#1090;&#1074;&#1086;&amp;action=edit" TargetMode="External"/><Relationship Id="rId3" Type="http://schemas.openxmlformats.org/officeDocument/2006/relationships/hyperlink" Target="http://ru.wikipedia.org/wiki/&#1041;&#1080;&#1086;&#1084;&#1072;&#1089;&#1089;&#1072;" TargetMode="External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49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7" name="WordArt 5"/>
          <p:cNvSpPr txBox="1"/>
          <p:nvPr/>
        </p:nvSpPr>
        <p:spPr>
          <a:xfrm>
            <a:off x="395280" y="2421000"/>
            <a:ext cx="8569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следствия парникового эффекта для Земли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68" name="MSj01187.wav" descr=""/>
          <p:cNvPicPr/>
          <p:nvPr/>
        </p:nvPicPr>
        <p:blipFill>
          <a:blip r:embed="rId1"/>
          <a:stretch/>
        </p:blipFill>
        <p:spPr>
          <a:xfrm>
            <a:off x="8839080" y="6381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69" name="Text Box 17"/>
          <p:cNvSpPr/>
          <p:nvPr/>
        </p:nvSpPr>
        <p:spPr>
          <a:xfrm>
            <a:off x="6084720" y="4797360"/>
            <a:ext cx="2880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резентация по географи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ученицы 11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”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Б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”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класс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Буглевской Анны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" restart="whenNotActive" nodeType="interactiveSeq" fill="hold">
                <p:stCondLst>
                  <p:cond evt="onClick">
                    <p:tgtEl>
                      <p:spTgt spid="768"/>
                    </p:tgtEl>
                  </p:cond>
                </p:stCondLst>
                <p:childTnLst>
                  <p:par>
                    <p:cTn id="12" nodeType="clickEffect" fill="hold">
                      <p:stCondLst>
                        <p:cond evt="onClick">
                          <p:tgtEl>
                            <p:spTgt spid="768"/>
                          </p:tgtEl>
                        </p:cond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6235" fill="hold"/>
                                        <p:tgtEl>
                                          <p:spTgt spid="7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Возможные последствия глобального потепления климата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 не можем точно сказать к каким изменениям климата может привести глобальное потепление. Однако, 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 мнению многих ученых, если сохранится тенденция глобального потепления, это приведет к изменению погоды и увеличению количества осадков, что, в свою очередь, приведет к подъему уровня Mирового океана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США и бывшем СССР последние 30-40 лет выпадает осадков на 10 процентов больше, чем в прошл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то же время, количество осадков над экватором сократилась на те же десять проценто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Возможные последствия глобального потепления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клима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ьнейшее изменение в системе выпадения осадков окажет огромное воздействие на сельское хозяйство, смещая зоны возделывания культур в северные районы Северной Америки и Евразии. Наиболее благоприятные условия для выращивания культур сложатся в сельскохозяйственных регионах России и обильные осадки будут выпадать в Северной Африке, где засуха продолжается с 1970-го года. Кроме того, повышение температуры увеличит испарение влаги с поверхности океана. Это приведет к увеличению выпадения осадков на 11 процент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ледствия потепления климата будут ощущаться на Северном и Южном полюсах, где увеличившаяся температура приведет к подтаиванию ледников. По расчетам ученых увеличение температуры на 10 градусов по Цельсию, вызовет повышение уровн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рового океана на 5-6 метров, что приведет к затоплению многих прибрежных территорий во всем мир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000" spc="-1" strike="noStrike">
                <a:solidFill>
                  <a:srgbClr val="ffff00"/>
                </a:solidFill>
                <a:latin typeface="Garamond"/>
              </a:rPr>
              <a:t>Уже сегодня мы сталкиваемся с участившимися климатическими  аномалиями. Это и всё более сильные ураганы и штормы, наводнения, засуха, выпадание снега там, где его никогда не ждали, необычайно тёплые зимы в северных широтах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12" name="Picture 4" descr="images3"/>
          <p:cNvPicPr/>
          <p:nvPr/>
        </p:nvPicPr>
        <p:blipFill>
          <a:blip r:embed="rId1"/>
          <a:stretch/>
        </p:blipFill>
        <p:spPr>
          <a:xfrm>
            <a:off x="395280" y="4221000"/>
            <a:ext cx="1944720" cy="223236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5" descr="untitled1"/>
          <p:cNvPicPr/>
          <p:nvPr/>
        </p:nvPicPr>
        <p:blipFill>
          <a:blip r:embed="rId2"/>
          <a:stretch/>
        </p:blipFill>
        <p:spPr>
          <a:xfrm>
            <a:off x="4284720" y="3213000"/>
            <a:ext cx="4572000" cy="3335400"/>
          </a:xfrm>
          <a:prstGeom prst="rect">
            <a:avLst/>
          </a:prstGeom>
          <a:ln w="0">
            <a:noFill/>
          </a:ln>
        </p:spPr>
      </p:pic>
      <p:sp>
        <p:nvSpPr>
          <p:cNvPr id="81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Таянье ледников- индикатор потепления климата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иболее чувствительными к потеплению климата являются ледник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Ледник Упсала в Патагонии (Аргентина) был одним из самых больших ледников Южной Америки, но теперь исчезает на 200 метров в год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17" name="Picture 4" descr=""/>
          <p:cNvPicPr/>
          <p:nvPr/>
        </p:nvPicPr>
        <p:blipFill>
          <a:blip r:embed="rId1"/>
          <a:stretch/>
        </p:blipFill>
        <p:spPr>
          <a:xfrm>
            <a:off x="2771640" y="3429000"/>
            <a:ext cx="3529080" cy="2376360"/>
          </a:xfrm>
          <a:prstGeom prst="rect">
            <a:avLst/>
          </a:prstGeom>
          <a:ln w="0">
            <a:noFill/>
          </a:ln>
        </p:spPr>
      </p:pic>
      <p:sp>
        <p:nvSpPr>
          <p:cNvPr id="81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Таянье ледников- индикатор потепления климата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820" name="Picture 3" descr=""/>
          <p:cNvPicPr/>
          <p:nvPr/>
        </p:nvPicPr>
        <p:blipFill>
          <a:blip r:embed="rId1"/>
          <a:stretch/>
        </p:blipFill>
        <p:spPr>
          <a:xfrm>
            <a:off x="2627280" y="2421000"/>
            <a:ext cx="4043520" cy="2836800"/>
          </a:xfrm>
          <a:prstGeom prst="rect">
            <a:avLst/>
          </a:prstGeom>
          <a:ln w="0">
            <a:noFill/>
          </a:ln>
        </p:spPr>
      </p:pic>
      <p:sp>
        <p:nvSpPr>
          <p:cNvPr id="821" name="Rectangle 4"/>
          <p:cNvSpPr/>
          <p:nvPr/>
        </p:nvSpPr>
        <p:spPr>
          <a:xfrm>
            <a:off x="1332000" y="1706760"/>
            <a:ext cx="636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Ледник Роун, Валаис, Швейцария поднялся вверх на 450 метров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Таянье ледников- индикатор потепления климата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824" name="Picture 3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4475160" cy="262080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4" descr=""/>
          <p:cNvPicPr/>
          <p:nvPr/>
        </p:nvPicPr>
        <p:blipFill>
          <a:blip r:embed="rId2"/>
          <a:stretch/>
        </p:blipFill>
        <p:spPr>
          <a:xfrm>
            <a:off x="3492360" y="4149720"/>
            <a:ext cx="2114640" cy="1905120"/>
          </a:xfrm>
          <a:prstGeom prst="rect">
            <a:avLst/>
          </a:prstGeom>
          <a:ln w="0">
            <a:noFill/>
          </a:ln>
        </p:spPr>
      </p:pic>
      <p:sp>
        <p:nvSpPr>
          <p:cNvPr id="826" name="Rectangle 5"/>
          <p:cNvSpPr/>
          <p:nvPr/>
        </p:nvSpPr>
        <p:spPr>
          <a:xfrm>
            <a:off x="5434200" y="5660280"/>
            <a:ext cx="32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Ледник портадж в Аляске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27" name="MSj01250.wav" descr=""/>
          <p:cNvPicPr/>
          <p:nvPr/>
        </p:nvPicPr>
        <p:blipFill>
          <a:blip r:embed="rId3"/>
          <a:stretch/>
        </p:blipFill>
        <p:spPr>
          <a:xfrm>
            <a:off x="7164360" y="6237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82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7590" fill="hold"/>
                                        <p:tgtEl>
                                          <p:spTgt spid="8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Киотский протоко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облема влияния парникового эффекта на климат земли является одной из важнейших задач, требующих скорейшего решения. Начальным этапом решения проблемы стали международные договорённости по сокращению выбросов парниковых газов в атмосферу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2000"/>
                                        <p:tgtEl>
                                          <p:spTgt spid="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Киотский протокол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Киотский протокол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— международный документ, принятый в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Киото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Япония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 в декабре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1997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года в дополнение к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Рамочной конвенции ООН об изменении климат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. Период подписания протокола открылся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16 март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6"/>
              </a:rPr>
              <a:t>1998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года и завершился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7"/>
              </a:rPr>
              <a:t>15 март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8"/>
              </a:rPr>
              <a:t>1999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5" name="Picture 4" descr="Picture2"/>
          <p:cNvPicPr/>
          <p:nvPr/>
        </p:nvPicPr>
        <p:blipFill>
          <a:blip r:embed="rId1"/>
          <a:stretch/>
        </p:blipFill>
        <p:spPr>
          <a:xfrm>
            <a:off x="539640" y="1628640"/>
            <a:ext cx="8207640" cy="4680000"/>
          </a:xfrm>
          <a:prstGeom prst="rect">
            <a:avLst/>
          </a:prstGeom>
          <a:ln w="0">
            <a:noFill/>
          </a:ln>
        </p:spPr>
      </p:pic>
      <p:sp>
        <p:nvSpPr>
          <p:cNvPr id="836" name="Text Box 5"/>
          <p:cNvSpPr/>
          <p:nvPr/>
        </p:nvSpPr>
        <p:spPr>
          <a:xfrm>
            <a:off x="1476360" y="2421000"/>
            <a:ext cx="6983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Киотский протокол стал первым глобальным соглашением об охране окружающей среды, основанным на рыночных механизмах регулирования — механизме международной торговли квотами на выбросы парниковых газов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Страны 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участницы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Протокола определили для себя количественные обязательства по ограничению либо сокращению выбросов на период с 1 января 2008 до 31 декабря 2012 года. Цель ограничений — снизить в этот период совокупный средний уровень выбросов 6 типов газов (CO2, CH4, </a:t>
            </a:r>
            <a:r>
              <a:rPr b="0" lang="en-US" sz="1800" spc="-1" strike="noStrike">
                <a:solidFill>
                  <a:srgbClr val="ff0000"/>
                </a:solidFill>
                <a:latin typeface="Garamond"/>
              </a:rPr>
              <a:t>гидрофторуглеводороды, </a:t>
            </a:r>
            <a:r>
              <a:rPr b="0" lang="en-US" sz="1800" spc="-1" strike="noStrike">
                <a:solidFill>
                  <a:srgbClr val="a50021"/>
                </a:solidFill>
                <a:latin typeface="Garamond"/>
              </a:rPr>
              <a:t>перфторуглеводороды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, N2O, SF6) на 5,2 % по сравнению с уровнем 1990 год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7" name="WordArt 6"/>
          <p:cNvSpPr txBox="1"/>
          <p:nvPr/>
        </p:nvSpPr>
        <p:spPr>
          <a:xfrm>
            <a:off x="2556000" y="620640"/>
            <a:ext cx="4086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етали соглашения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4" dur="2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География Киотского протокола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По состоянию на 14 февраля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2006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года Протокол был ратифицирован 161 страной мира (совокупно ответственными за более чем 61 % общемировых выбросов). Заметным исключением из этого списка являются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США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41" name="Picture 4" descr="Kyoto"/>
          <p:cNvPicPr/>
          <p:nvPr/>
        </p:nvPicPr>
        <p:blipFill>
          <a:blip r:embed="rId3"/>
          <a:stretch/>
        </p:blipFill>
        <p:spPr>
          <a:xfrm>
            <a:off x="900000" y="2852640"/>
            <a:ext cx="7620120" cy="3524400"/>
          </a:xfrm>
          <a:prstGeom prst="rect">
            <a:avLst/>
          </a:prstGeom>
          <a:ln w="0">
            <a:noFill/>
          </a:ln>
        </p:spPr>
      </p:pic>
      <p:sp>
        <p:nvSpPr>
          <p:cNvPr id="84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Что такое парниковый эффект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арниковый эффект. Как он действует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арниковые газы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лияние парникового эффекта на климат Земл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Таянье ледников- индикатор потепления климат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Киотский протоко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14  мифов о глобальном потеплени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2" name="WordArt 4"/>
          <p:cNvSpPr txBox="1"/>
          <p:nvPr/>
        </p:nvSpPr>
        <p:spPr>
          <a:xfrm>
            <a:off x="1835280" y="549360"/>
            <a:ext cx="53290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одержание презентации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7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7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7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7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7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4 мифов о глобальном потеплении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99ff"/>
                </a:solidFill>
                <a:latin typeface="Tahoma"/>
              </a:rPr>
              <a:t>Человек с древних времен склонен верить мифам. Часть из них не лишена логики, но все таки большая половина оказывается полным бредом. То же самое и с </a:t>
            </a:r>
            <a:r>
              <a:rPr b="1" lang="en-US" sz="1600" spc="-1" strike="noStrike">
                <a:solidFill>
                  <a:srgbClr val="3399ff"/>
                </a:solidFill>
                <a:latin typeface="Tahoma"/>
              </a:rPr>
              <a:t>глобальным потеплением</a:t>
            </a:r>
            <a:r>
              <a:rPr b="0" lang="en-US" sz="1600" spc="-1" strike="noStrike">
                <a:solidFill>
                  <a:srgbClr val="3399ff"/>
                </a:solidFill>
                <a:latin typeface="Tahoma"/>
              </a:rPr>
              <a:t>. Вот распространенные заблуждения, связанные с ним: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1). Глобального потепления вообще не происходит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К сожалению происходит. Наукой не раз доказано, а фактами подтверждено, что температура быстро растет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2). Глобальное потепление - естественный процесс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Скорее всего нет (повышение температуры, особенно с 70-х годов, намного превышают естественные изменения)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3). В любом случае последствия будут постепенным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Сильные штормы становятся все чаще, а историей доказано, резкое изменение климатических условий может наступить внезапно, буквально за несколько лет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5" name="Picture 4" descr="eart-on-fire"/>
          <p:cNvPicPr/>
          <p:nvPr/>
        </p:nvPicPr>
        <p:blipFill>
          <a:blip r:embed="rId1"/>
          <a:stretch/>
        </p:blipFill>
        <p:spPr>
          <a:xfrm>
            <a:off x="6300720" y="4869000"/>
            <a:ext cx="2266920" cy="1989000"/>
          </a:xfrm>
          <a:prstGeom prst="rect">
            <a:avLst/>
          </a:prstGeom>
          <a:ln w="0">
            <a:noFill/>
          </a:ln>
        </p:spPr>
      </p:pic>
      <p:sp>
        <p:nvSpPr>
          <p:cNvPr id="8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4 мифов о глобальном потеплени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4). Глобальное потепление приведет к всемирному потопу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Если потепление будет идти теми же темпами, то уровень мирового океана поднимется на 1 метр. Если же допустить, что все ледники растают, что конечно же невозможно, то вода поднимется на 10 метров. И если учесть, что средняя высота суши над уровнем океана - 840 метров, то переживать так сильно по поводу затопления не стоит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5). Глобальное потепление - единственная причина резких, непредсказуемых изменений погоды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Далеко не единственная. Существует ряд естественных, циклических процессов, к которым глобальное потепление не имеет никакого отношения. И именно они являются тем, что может вызвать резкое потепление или похолодание. Такими факторами могут послужить океанские течения, циклоны, изменение магнитного поля Земли и просто совпадения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9" name="Picture 5" descr="small-gletscher"/>
          <p:cNvPicPr/>
          <p:nvPr/>
        </p:nvPicPr>
        <p:blipFill>
          <a:blip r:embed="rId1"/>
          <a:stretch/>
        </p:blipFill>
        <p:spPr>
          <a:xfrm>
            <a:off x="6248520" y="4952880"/>
            <a:ext cx="2895480" cy="1905120"/>
          </a:xfrm>
          <a:prstGeom prst="rect">
            <a:avLst/>
          </a:prstGeom>
          <a:ln w="0">
            <a:noFill/>
          </a:ln>
        </p:spPr>
      </p:pic>
      <p:sp>
        <p:nvSpPr>
          <p:cNvPr id="8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4 мифов о глобальном потеплени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6). Выбросы углекислого газа слишком незначительны, чтобы спровоцировать глобальное потепление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Хотелось бы верить, но пока факты это отрицают. По статистическим данным, которым можно доверять были построены графики концентрации углекислого газа в атмосфере и температуры в это время. Они совпадаю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7). Из-за глобального потепления температура скоро вырастет настолько, что мы все погибнем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Не настолько и не скоро. За последние 100 лет температура выросла на 0,7°С, - 1° С. И по самым смелым прогнозам в ближайшие 100 лет может вырасти еще на 4,6° С, но скорее всего это увеличение не превысит 2°С. С меньшей вероятностью, но есть модели, предсказывающие да же похолодание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8). От глобального потепления мы получим только выгоду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В некоторых районах можно будет порадоваться необычно теплой погодой, но цена негативных последствий превысит любые выгоды. Число болезней и смертей из-за жары вырастет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3" name="Picture 4" descr="sity-on-smoge"/>
          <p:cNvPicPr/>
          <p:nvPr/>
        </p:nvPicPr>
        <p:blipFill>
          <a:blip r:embed="rId1"/>
          <a:stretch/>
        </p:blipFill>
        <p:spPr>
          <a:xfrm>
            <a:off x="5003640" y="4952880"/>
            <a:ext cx="3009960" cy="1905120"/>
          </a:xfrm>
          <a:prstGeom prst="rect">
            <a:avLst/>
          </a:prstGeom>
          <a:ln w="0">
            <a:noFill/>
          </a:ln>
        </p:spPr>
      </p:pic>
      <p:sp>
        <p:nvSpPr>
          <p:cNvPr id="8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4 мифов о глобальном потеплени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9). Сельскому хозяйству это будет только на руку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Углекислый газ может повысить урожайность ряда культур, но так же возрастет и количество сорняков и вредителей. Растения не смогут хорошо расти на том же месте из-за климатического сдвиг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10). Правительство о нас позаботится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Помимо прянятия Киотского протокола (который только ограничивает выбросы) несколькими странами, исключая США (крупнейший источник вредным выбросов) больше ничего сделано не было. Правительства боятся экономических последствий борьбы с глобальным потеплением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11). Проблема не так серьезна, как национальная безопасность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Ну как посмотреть. Если учесть, что потепление затронет каждого жителя планеты (при чем больно ударив по нему), то думаю будет посерьезне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12). Причины глобального потепления известны.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Многие верят, что в глобальном потеплении полностью виновен человек и что только остановив промышленную деятельность, можно избежать катастрофы. В действительности же проблема изменения климата настолько нова, что сейчас невозможно с точностью сказать о ее причинах. То, что оно происходит - это факт, но то что это результат антропогенной деятельности человека далеко не единственная версия. Так, например, существует версия, что это результат естественных процессов, происходящих в системе Солнце - Земля - Космос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4 мифов о глобальном потеплени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13). Мы знаем, как бороться с глобальным потеплением, у нас есть технологи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Стратегический план находится в разработке. Существует несколько масштабных вариантов борьбы с глобальным потеплением, но все они из области фантастики, да и требуют колоссальных вложений, сравнимых с бюджетом США, но лучше много мелких изменений, чем одно большо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14). Мы не можем ничего с этим поделать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Каждый уже сейчас может внести свой вклад в борьбу с глобальным потеплением хотя бы просто соблюдая рационализм в своей потребительской деятельност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заключении хочется отметить, что существует версия, о том, что влияние парникового эффекта на глобальное  потепление климата не так значительно, а нынешнее потепление – это лишь очередной этап в циклическом изменении климата нашей планеты. Ведь не стоит забывать, что по геологическим меркам последний ледниковый период на Земле был не так уж и давно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Что такое парниковый эффект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арнико́вый эффе́к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— повышени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емпературы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нижних слоёв атмосферы планеты по сравнению с эффективной температурой, т. е. температурой теплового излучения планеты, наблюдаемого из космос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Парниковый эффект. Как это происходит?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9" name="Picture 4" descr="CLIMATE_CHANGE"/>
          <p:cNvPicPr/>
          <p:nvPr/>
        </p:nvPicPr>
        <p:blipFill>
          <a:blip r:embed="rId1"/>
          <a:stretch/>
        </p:blipFill>
        <p:spPr>
          <a:xfrm>
            <a:off x="684360" y="3213000"/>
            <a:ext cx="7775280" cy="345600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6" descr="Picture2"/>
          <p:cNvPicPr/>
          <p:nvPr/>
        </p:nvPicPr>
        <p:blipFill>
          <a:blip r:embed="rId2"/>
          <a:stretch/>
        </p:blipFill>
        <p:spPr>
          <a:xfrm>
            <a:off x="684360" y="1197000"/>
            <a:ext cx="7775280" cy="2016000"/>
          </a:xfrm>
          <a:prstGeom prst="rect">
            <a:avLst/>
          </a:prstGeom>
          <a:ln w="0">
            <a:noFill/>
          </a:ln>
        </p:spPr>
      </p:pic>
      <p:sp>
        <p:nvSpPr>
          <p:cNvPr id="781" name="Text Box 7"/>
          <p:cNvSpPr/>
          <p:nvPr/>
        </p:nvSpPr>
        <p:spPr>
          <a:xfrm>
            <a:off x="1619280" y="1557360"/>
            <a:ext cx="655308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Накопление углекислого газа в атмосфере - одна из основных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причин парникового эффекта. Углекислый газ действует в атмосфере, как стекло в оранжерее: он пропускает солнечную радиацию и не пропускает обратно в космос инфракрасное (тепловое) излучение Земли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4" name="Picture 3" descr="Air_4"/>
          <p:cNvPicPr/>
          <p:nvPr/>
        </p:nvPicPr>
        <p:blipFill>
          <a:blip r:embed="rId1"/>
          <a:stretch/>
        </p:blipFill>
        <p:spPr>
          <a:xfrm>
            <a:off x="468360" y="333360"/>
            <a:ext cx="8136000" cy="5688000"/>
          </a:xfrm>
          <a:prstGeom prst="rect">
            <a:avLst/>
          </a:prstGeom>
          <a:ln w="0">
            <a:noFill/>
          </a:ln>
        </p:spPr>
      </p:pic>
      <p:sp>
        <p:nvSpPr>
          <p:cNvPr id="78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Парниковые газы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Водяной пар — основной естественный парниковый газ, ответственный более, чем за 60 % эффект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Углекислый газ (</a:t>
            </a:r>
            <a:r>
              <a:rPr b="0" lang="en-US" sz="1800" spc="-1" strike="noStrike">
                <a:solidFill>
                  <a:srgbClr val="ffcc66"/>
                </a:solidFill>
                <a:latin typeface="Tahoma"/>
              </a:rPr>
              <a:t>CO2</a:t>
            </a: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)</a:t>
            </a: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- </a:t>
            </a: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и</a:t>
            </a:r>
            <a:r>
              <a:rPr b="0" lang="en-US" sz="1800" spc="-1" strike="noStrike">
                <a:solidFill>
                  <a:srgbClr val="ffcc66"/>
                </a:solidFill>
                <a:latin typeface="Tahoma"/>
              </a:rPr>
              <a:t>сточниками углекислого газа в атмосфере Земли являются вулканические выбросы, жизнедеятельность организмов, деятельность челове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Метан (</a:t>
            </a:r>
            <a:r>
              <a:rPr b="0" lang="en-US" sz="1800" spc="-1" strike="noStrike">
                <a:solidFill>
                  <a:srgbClr val="ffcc66"/>
                </a:solidFill>
                <a:latin typeface="Tahoma"/>
              </a:rPr>
              <a:t>CH4</a:t>
            </a: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)</a:t>
            </a: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- о</a:t>
            </a: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сновными антропогенными источниками метана являются </a:t>
            </a:r>
            <a:r>
              <a:rPr b="0" lang="en-US" sz="20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пищеварительная ферментация</a:t>
            </a: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 у скота, </a:t>
            </a:r>
            <a:r>
              <a:rPr b="0" lang="en-US" sz="20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рисоводство</a:t>
            </a: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, горение </a:t>
            </a:r>
            <a:r>
              <a:rPr b="0" lang="en-US" sz="20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биомассы</a:t>
            </a: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 (в т. ч. сведение лесов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Озон (О3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Оксид углерода (СО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фреон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8" name="Picture 4" descr="140px-Carbon-dioxide-3D-vdW"/>
          <p:cNvPicPr/>
          <p:nvPr/>
        </p:nvPicPr>
        <p:blipFill>
          <a:blip r:embed="rId4"/>
          <a:stretch/>
        </p:blipFill>
        <p:spPr>
          <a:xfrm>
            <a:off x="539640" y="5013360"/>
            <a:ext cx="1333440" cy="87624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5" descr="100px-Methane-3D-space-filling"/>
          <p:cNvPicPr/>
          <p:nvPr/>
        </p:nvPicPr>
        <p:blipFill>
          <a:blip r:embed="rId5"/>
          <a:stretch/>
        </p:blipFill>
        <p:spPr>
          <a:xfrm>
            <a:off x="3995640" y="5157720"/>
            <a:ext cx="952560" cy="792360"/>
          </a:xfrm>
          <a:prstGeom prst="rect">
            <a:avLst/>
          </a:prstGeom>
          <a:ln w="0">
            <a:noFill/>
          </a:ln>
        </p:spPr>
      </p:pic>
      <p:pic>
        <p:nvPicPr>
          <p:cNvPr id="790" name="Picture 6" descr="200px-Ozone_molecule_ball_and_stick"/>
          <p:cNvPicPr/>
          <p:nvPr/>
        </p:nvPicPr>
        <p:blipFill>
          <a:blip r:embed="rId6"/>
          <a:stretch/>
        </p:blipFill>
        <p:spPr>
          <a:xfrm>
            <a:off x="7164360" y="5229360"/>
            <a:ext cx="1368360" cy="792000"/>
          </a:xfrm>
          <a:prstGeom prst="rect">
            <a:avLst/>
          </a:prstGeom>
          <a:ln w="0">
            <a:noFill/>
          </a:ln>
        </p:spPr>
      </p:pic>
      <p:pic>
        <p:nvPicPr>
          <p:cNvPr id="791" name="Picture 7" descr="140px-Carbon-dioxide-2D-dimensions"/>
          <p:cNvPicPr/>
          <p:nvPr/>
        </p:nvPicPr>
        <p:blipFill>
          <a:blip r:embed="rId7"/>
          <a:stretch/>
        </p:blipFill>
        <p:spPr>
          <a:xfrm>
            <a:off x="539640" y="5950080"/>
            <a:ext cx="1333440" cy="685800"/>
          </a:xfrm>
          <a:prstGeom prst="rect">
            <a:avLst/>
          </a:prstGeom>
          <a:ln w="0">
            <a:noFill/>
          </a:ln>
        </p:spPr>
      </p:pic>
      <p:pic>
        <p:nvPicPr>
          <p:cNvPr id="792" name="Picture 8" descr="100px-Methane-2D"/>
          <p:cNvPicPr/>
          <p:nvPr/>
        </p:nvPicPr>
        <p:blipFill>
          <a:blip r:embed="rId8"/>
          <a:stretch/>
        </p:blipFill>
        <p:spPr>
          <a:xfrm>
            <a:off x="4932360" y="5589720"/>
            <a:ext cx="952560" cy="1000080"/>
          </a:xfrm>
          <a:prstGeom prst="rect">
            <a:avLst/>
          </a:prstGeom>
          <a:ln w="0">
            <a:noFill/>
          </a:ln>
        </p:spPr>
      </p:pic>
      <p:sp>
        <p:nvSpPr>
          <p:cNvPr id="79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2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3" dur="2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Влияние парникового эффекта на климат Земли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795" name="Picture 4" descr="Picture3"/>
          <p:cNvPicPr/>
          <p:nvPr/>
        </p:nvPicPr>
        <p:blipFill>
          <a:blip r:embed="rId1"/>
          <a:stretch/>
        </p:blipFill>
        <p:spPr>
          <a:xfrm>
            <a:off x="250920" y="1628640"/>
            <a:ext cx="8569080" cy="504036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5"/>
          <p:cNvSpPr/>
          <p:nvPr/>
        </p:nvSpPr>
        <p:spPr>
          <a:xfrm>
            <a:off x="1187280" y="2421000"/>
            <a:ext cx="720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7" name="Text Box 7"/>
          <p:cNvSpPr/>
          <p:nvPr/>
        </p:nvSpPr>
        <p:spPr>
          <a:xfrm>
            <a:off x="1116000" y="2492280"/>
            <a:ext cx="7129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Ещё в 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1827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году французский физик Жозеф Фурье предположил, что атмосфера земли выполняет функцию своего рода стекла в теплице: воздух пропускает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солнечное тепло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, не давая ему при этом испариться обратно в космос. Этот эффект достигается благодаря некоторым атмосферным газам второстепенного значения, каковыми являются, например, водяные испарения и углекислый газ. Они пропускают видимый и «ближний» инфракрасный свет, излучаемый солнцем, но поглощают «далекое» инфракрасное излучение, имеющее более низкую частоту и образующееся при нагревании земной поверхности солнечными лучами. Если бы этого не происходило, Земля была бы примерно на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30 градусов холоднее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, чем сейчас, и жизнь бы на ней практически замерл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лияние парникового эффекта на климат Земл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46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днако, з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 последние 100 лет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связи с активной деятельностью человека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доля двуокиси углерода имеет тенденцию роста приблизительно на 25% и средняя температура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земли повысилась на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0,7º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 Земля нагревается однако неравномерно, температуры на полюсах увеличиваются более экстремально, чем в других областях земли. Если эта тенденция не остановится, то наступят климатические изменения – более долгие периоды засухи, интенсивное выпадение осадков и более мощные ураганы – уровень моря может подняться. Плодородные регионы побережья станут жертвой моря и будут затоплены. Может возникнуть угроза голода и миграции народов с губительными социальными последствиями.  Климат Земли грозит нам еще большими неприятностями, нежели те, что он преподнес в последние годы - катастрофические ураганы, бурные наводнения и жестокие засухи. Они, вероятно, будут повторяться все чаще и станут разрушительнее. Продолжаться это будет до тех пор, пока человечество не найдет способ значительно уменьшить содержание парниковых газов разогревающих атмосферу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лияние парникового эффекта на климат Зем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так: основным следствием парникового эффекта является глобальное потеп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7:48:18Z</dcterms:created>
  <dc:creator> juri</dc:creator>
  <dc:description>ppt.3dn.ru</dc:description>
  <dc:language>en-US</dc:language>
  <cp:lastModifiedBy>LEGION</cp:lastModifiedBy>
  <dcterms:modified xsi:type="dcterms:W3CDTF">2015-05-06T08:07:56Z</dcterms:modified>
  <cp:revision>29</cp:revision>
  <dc:subject/>
  <dc:title>Потепление климат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e0a000000000001024140</vt:lpwstr>
  </property>
  <property fmtid="{D5CDD505-2E9C-101B-9397-08002B2CF9AE}" pid="3" name="Version">
    <vt:r8>6</vt:r8>
  </property>
</Properties>
</file>